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3B3-119E-4F7B-B22E-F2489856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5E9-6472-44C7-89D0-8C09E389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0CB-C055-48DE-BFFD-29D88903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58A-2539-49A4-8B86-38EBEAEA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189-60BC-4C0B-8462-0E816389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6C8-9B8A-4C73-8F16-E0281DD5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2C5-9C57-4E9E-9CB1-9EC66AD3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84C-8F73-4AEC-B233-41A98FAE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8AD-53DF-4BF0-8CD6-C7531B31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6AB-E976-4D1D-B6D8-C9702920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C5F-8E53-49B8-9A74-9A1E8851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0E8-A314-4410-83CA-C299E8D9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8CCC-006E-4500-A3A5-116495F06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3120" y="765000"/>
            <a:ext cx="7992720" cy="489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ffff99"/>
                </a:solidFill>
                <a:latin typeface="Arial"/>
                <a:ea typeface="Arial"/>
              </a:rPr>
              <a:t>/О, Господи наш, велик Си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ffff99"/>
                </a:solidFill>
                <a:latin typeface="Arial"/>
                <a:ea typeface="Arial"/>
              </a:rPr>
              <a:t>и могъщи са твойте дела./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ffff99"/>
                </a:solidFill>
                <a:latin typeface="Arial"/>
                <a:ea typeface="Arial"/>
              </a:rPr>
              <a:t>О, Боже, хваля Те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ffff99"/>
                </a:solidFill>
                <a:latin typeface="Arial"/>
                <a:ea typeface="Arial"/>
              </a:rPr>
              <a:t>Исусе величая Те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ffff99"/>
                </a:solidFill>
                <a:latin typeface="Arial"/>
                <a:ea typeface="Arial"/>
              </a:rPr>
              <a:t>Цар велик, могъщ Си Т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ffff99"/>
                </a:solidFill>
                <a:latin typeface="Arial"/>
                <a:ea typeface="Arial"/>
              </a:rPr>
              <a:t>и Създател на всемира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95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8:38:11Z</dcterms:created>
  <dc:creator>TrifonTrifonow</dc:creator>
  <dc:description/>
  <dc:language>en-US</dc:language>
  <cp:lastModifiedBy>TrifonTrifonow</cp:lastModifiedBy>
  <dcterms:modified xsi:type="dcterms:W3CDTF">2005-09-19T08:42:37Z</dcterms:modified>
  <cp:revision>2</cp:revision>
  <dc:subject/>
  <dc:title>Slide 1</dc:title>
</cp:coreProperties>
</file>